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A2690-F4D2-482F-81CA-96E2610070BA}"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7E34C-70AF-4CDF-A385-295F28289F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BDDDB-4D31-485B-8F0A-E8DF9BA443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7F153-9074-4B98-B402-4EBC973FF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4A96E-6A36-411E-8BEB-BD9227BB88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AF670-A373-47E7-84D1-657BC04FE7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66B3F-6139-424D-AEA2-752D8AC4E2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0E076-BD53-4106-AF68-FA26D350DD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53093-2241-44AE-A0CE-EF8BE2DDDA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7487C-47BE-4D68-A398-538306CAD9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E7760-E30A-4499-B07B-5578B87B50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CCD25-B284-4677-B923-2C799C72A3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BA46E-6D4C-4BC0-858D-0A1E175E14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FFFC4-F284-4850-90EA-A84C341444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E01C5-FF4C-4F9E-9460-BF76AB2654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E809F-D63D-450A-A414-F267C19C0A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26CE2-3731-4C09-9B7F-FABDBF35B3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84A19-81A7-4E01-8715-838E6CCD00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AF3F1-666A-4F7B-A002-FCD93BBD3C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7B7E4-BF7F-42FC-88C1-F631474DBE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A8AC3-62B6-4B22-9A7E-1786BE5237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F1F93-7517-4A54-BFCB-97B2F69084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A3A4C-903A-42D4-968B-2642A80072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CC5D9-8B50-49D3-9DFC-13531E4B5C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50466-D8FA-4F7C-B80B-BD79EEA2F4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5C539-DCDD-4EB3-82E9-97154D6BC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38F6F-FE0C-44BC-845A-AFEB27A1C8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B6C16-0B2C-48F9-8FB1-A6B0EA9E3D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73295-80F0-40D8-A7EC-7E5F5EA66A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36838-5385-4281-A766-56B23C00A0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1D95C-68D6-442A-8A3D-0504E3562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9836-09F2-42E8-BCC6-7B1569B53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6A8CD-6172-4E56-A5E7-EC2F40F66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B737C-7E4D-466E-AD56-7C5D15994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8151D-8DC1-4448-BA43-0559E19FA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0AE0-BA2F-4983-9C66-46B22B11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2E27-026C-4418-907A-0CBDC82F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749D-F54F-4D2A-9A93-5AB88E44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51E7-D0A5-496B-9CD6-73DD7C0F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6759-305E-4A93-9726-A7B633FE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EEF9-68EE-48E4-A5B4-8624786A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0E95-F86E-4919-8E78-1CF1874BA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1E0FD-FB3C-4BA7-80B9-B21E45FBDE8E}"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C01A2-BA70-4E0D-8162-2D2FCD8069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8D05F5-56B4-49D7-B21A-7B9B6D5A52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7FDD0B-ACA8-4A9E-9F45-CC826EAA13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99F060-B7E0-4DA9-BE12-1415D37758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D0AF74-0FB1-42E4-A7A4-A7D2BE4DBF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8CDD28-EF55-4364-B3F3-6559C0D659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C6096E-8B25-48A1-B16A-37E54FB879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B7B302-2287-450A-BC68-EE3F5692A8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F635C2-400C-450C-8333-9B9EA5C46B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C3AA04-A953-4E17-8F9A-586006448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C61256-70D6-4D7C-B9FE-0DD93FB2AD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F808B3-4FB4-443E-85EA-5162D0299F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291769-269E-4D90-8425-9AD21099E8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C59FC9-9A84-45DD-8FA3-10AEE11144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A1152E-729C-4614-BB68-C90829F776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AE7576-BDA6-43B7-B64C-EAC15A9C95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3D6770-C42E-46D1-A80C-6790EA396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D58966-F837-41A9-91B4-90DB922637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9AC011-C7C8-48C4-AA46-3ADE3D22E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07168-14AB-4AB0-AE48-CC3686E26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3A5426-F2E0-4329-9F47-3256D3F89C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432997-5791-4D67-A626-3A159B0E88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CCA56F-3C5A-42E8-AD51-2D5C8DEB90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7AA015-013C-4B82-B3D2-72B0B1EC84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CC8FB0-EFFD-46E6-BE04-93EF05BA21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F437CB-DE8C-4516-8632-D1C6381A69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507186-75F3-48CB-AEA9-F2AB7DA61D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634AD7-9191-4B18-83DF-4A6A572AED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970894-E8D4-4512-9BBC-8A5C382A0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3677B9-E355-43CD-9FCF-57CCFB57A0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0:35Z</dcterms:modified>
  <cp:revision>510</cp:revision>
  <dc:subject/>
  <dc:title>Introductory Cybercrime Training for Judges and Prosecutors</dc:title>
</cp:coreProperties>
</file>